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CC6-0AF6-43CA-9A75-4A1D2497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454-8861-4758-AF48-2F3F009D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157D-92BA-4BB4-B6FF-F28D7946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82CA-5841-44C8-85E6-48E3CA34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3D94-97D9-4D0D-9B14-2CA2A941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1916-BE14-4D77-8AE2-CFC1F752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FAD0-E832-4231-AEF0-8B9F1932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BF90-0D84-4BD2-B573-285394AF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7615-33CC-430A-9630-650C32B5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FFB1-19D2-4139-8937-1365A258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B536-5FC6-4491-B868-4EDCD5E8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5448-AA64-4C28-BE49-81957073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905F-5367-4B1E-9DE2-E0E67705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A144-BFF7-4CD6-A2D0-ADBB8D21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3AE9-BA2C-42C8-B826-3D345F97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8529-C7AB-4067-85E7-014C600A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1893-4ABE-4D44-AD2B-05B26ECA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2E77E-3845-4B3C-8D1C-E829A1B6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746DC-E63D-4C58-90FB-ABBA178F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31AE0-E4A7-4537-9FCC-58762456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69DD7-1AD4-4F27-AC79-C2702E25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F4FB8-10A5-4A1A-B639-995A5262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B4CC-2096-4596-BF38-3068DA70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56A13-C81C-4BE9-9552-680660FD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6DAAF-E88F-4C4C-AC46-7CE0A672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C38F2-473A-41D9-A340-9CC3F088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28653-0556-4D59-BD44-AF2C3A48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C2A26-BF82-4D0A-8FD9-27AE5F83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E6A7D-52F0-4C23-9768-50C8027A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58560-AB8B-4F76-83DA-80EED3FA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6D45C-026C-4B8C-84C6-36961530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D6B3C-A09E-459E-9385-C198084C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1284E-8D07-4FCD-B02D-C2D044B7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AC30-3678-4DF7-A3A4-82253915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DE01E-A9AC-486F-9522-7CC0E199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EED8D-0777-4736-A840-3BE51FC9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A1CB7-10AB-4693-9A48-A82F3EFB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9F4F5-D536-4A75-A729-1BFB8107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93C1A-3904-4D83-BEE5-D940A5CD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D34B0-9463-4C3D-849A-7C44807B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33DE7-C07A-4252-853B-F698BDF1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FC363-95B5-4CE4-AA7F-B722359B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0B9A9-855D-4C3F-9420-33ABD8A2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51CD1-8246-4380-B9AD-17A34527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A40-CAD0-42A3-BC4A-F7AE14A9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C1739-2A67-4902-9282-795DA4FB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4543B-290E-4C00-BFB6-54A82914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81216-E15C-4AAC-B827-BC3D10C9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63F22-31CE-4D3D-8CD5-A5909D9F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B46CD-355C-4B8E-811F-47DD4251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86DCB-91B1-4BD8-ABA0-576A7535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3BEB8-C477-49E0-8F6E-744B2937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19DEC-9FD3-4204-BEA6-75A57FFE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931BF-0058-4001-ACF8-604CE85C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1294E-0226-4421-9BB8-11469701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A6E-86A7-4E93-9702-145F9AFA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6B17F-F5C7-41DC-979F-E4841BCC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628BA-8FF3-4BFC-904D-2B1C65BB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C5B9E-EC6E-442F-9065-CFD91186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951EF-D1DC-45A1-9CC4-F264F4DB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90C39-9493-46E9-9669-76CAFAD5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F7532-6B96-4729-8C11-4A891017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7501D-9931-438C-9807-CCA6E53A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8815D-861E-42A0-BC3E-D6D5B2B0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BCB9C-11CB-4701-853E-0831F4E6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EEE61-310F-41D2-A11F-B8377A66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125-0ACD-4A61-B599-FDC134D8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F86F4-C688-4304-A648-AE2A9D27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D1243-90ED-4351-972B-DEDB565A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CC927-3947-40AC-AF45-C51E166F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EB8B6-4B0E-4EDB-8E40-873DF932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02918-3F66-46A8-9598-5725D3BB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72070-6D50-4200-9699-83D6EE24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229A1-4EEA-4FB6-8324-EF1716F3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AAD1D-636F-4F4F-8833-F284FB0F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8938B-FBBC-422B-AC27-1DD86C3D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274A6-D37F-4791-BD52-0D134E17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D66-2B3C-4888-B355-B7EED59A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4B6C4-45C3-410D-98E3-F6910E54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05C11-98DA-42D5-B5D5-B7ED7E9B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634B8-B464-4BCA-B4A4-7B8A9ADD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DD00B-2044-4E6D-83B5-12BBF925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7D5E6-BE36-45E8-87A0-FD4ED233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49968-7DFC-4C36-8F91-20CE7524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70250-7FD9-44C2-955A-335FBE62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01DAE-9496-44F8-A040-816307D3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536D2-B52C-4AEC-89AB-477ACEFF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DC738-AC58-427C-B1B2-78631FBF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ADE-B63C-45E8-99A7-91E5BC77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93615-6F16-40B4-9AE7-3A6550B0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8EF0A-1F4A-4FB0-B5FF-28C6889F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0F4D7-7E28-4E38-9DA4-4D354E56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86564-E305-4C6F-AADB-39DB3AE5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1DF12-2C7E-4C90-AEA0-AB6CDA70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9735B-7F6A-4746-8E5F-58E588BF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3768F-1A18-481C-ABE9-E869A7A5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FD4F-5537-4326-A37E-1839F1DCBB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D005-5092-4D8A-A483-C4AF755E8A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18B0-6038-4613-BC6D-01821D97CE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A93E-339F-454D-B6A7-CD0DB6C87B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19E5-A3E7-42B7-9D26-57ABD5B204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CF80-4093-47D1-8FA5-AD9F26D3A5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A129-B197-4FB4-A4FE-DF433554C6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3F91-BAE0-4794-9AE8-B1578D6BFF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512640"/>
            <a:ext cx="8053560" cy="15541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xpertise-Oriented Appro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&amp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nsumer-Oriented Appro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Conflict of intere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Regional seen as formative and too light hand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. US Dept. summative and outcomes ba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. Confidentiality in Self-Re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. Transparency in Final Re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6. Competition from other sources (popular ratings -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U.S. News and World Repor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cific to Edu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CA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www.ncate.org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A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teac.org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740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at current issue in PA is related to this type of Ad Hoc Panel Review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ow will it impact you as a future educational leade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ttp://www.corestandards.org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ttp://www.corestandards.org/articles/9-nga-and-ccsso-comment-on-ccssi-governance-sugges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195120" y="146160"/>
            <a:ext cx="849816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at are the arguments for and against using professional judgment as the means for evaluating programs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at are the different types of expertise-oriented approaches?  How are they alike and how do they differ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y is accreditation of institutions of higher education controversial today?  How do these controversies reflect the controversies that frequently arise in many evaluations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195120" y="176040"/>
            <a:ext cx="849816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nition: Establish the value, merit or worth, of a product, program or poli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pplication of the system:  The evaluator is a person with expertise in judging things, but not with the particular content expertise-oriented or connoisseur evalua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riv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veloped checklists (p. 146 – 147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rk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formance” (multiple typ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st-Effective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ended Sup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W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ies.ed.gov/ncee/wwc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r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buros.unl.edu/buros/jsp/search.js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4. How is the consumer-oriented evaluation approach like the expertise-oriented approach?  How is it differen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.  How do these approaches influence the practice of evaluation today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95120" y="208080"/>
            <a:ext cx="84981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nition: Direct reliance on professional expertise as the primary evaluation strateg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ributors: Flexner &amp; Eisn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torical Foundations: Began in the late 1800s (schools, universities and hospitals) “Accreditation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ot a member of the profession he presumed to judg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rgued common sense was the most relevant form of expertis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e was a layman in terms of education, but he was an educator, and his judgments were directed at medical education rather than the practice of medicin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(what implications does this have for you as an aspiring administrator?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79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noisseurship and Criticis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did Eisner use as an analogy for connoisseurship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rt of appreciation – not necessarily a liking or a preference for that which is observ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recognize differences that are subtle but significant in a particular qualitative display” (p. 140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iticism – is the public side of connoisseurship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ducational connoisseurship: “… process and effect of education.  In an age of high-stakes testing, it is a perspective we badly need” (p. 141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225360" y="195120"/>
            <a:ext cx="846792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s of Accreditation “Middle States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://www.msche.org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y do institutions of higher education seek accreditatio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is the process for accreditation organized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has it impacted the Ed Admin program at Wilkes University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5144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 improve programs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(formative or summativ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14440" indent="-5144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14440" indent="-5144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14440" indent="-5144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. Provides consumers and stakeholders with an indication of quality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(formative or summative?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14440" indent="-5144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14440" indent="-5144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3. Ensures the government and those providing financial assistance that the programs are worthwhile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(formative or summative?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lf-study  (confidential, why?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port Review by exper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sits with interviews (all stakeholders) and records review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mmendations for improvement or approv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182520"/>
            <a:ext cx="849816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istenc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urriculu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ssignments/Assess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ubric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inual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ection of Assessments (see syllabu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em Analys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00:25:45Z</dcterms:created>
  <dc:creator>rschultz</dc:creator>
  <dc:description/>
  <dc:language>en-US</dc:language>
  <cp:lastModifiedBy>rschultz</cp:lastModifiedBy>
  <dcterms:modified xsi:type="dcterms:W3CDTF">2011-02-05T18:54:09Z</dcterms:modified>
  <cp:revision>10</cp:revision>
  <dc:subject/>
  <dc:title>Chapter 5</dc:title>
</cp:coreProperties>
</file>